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20FC-390A-4D5A-9753-77194A79C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D838-E8B0-4133-965E-4E4839515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BEE0-9FD5-4236-970B-AAD48E061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6D3C-ACBA-4874-B349-B6239818D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5 ideas, events,    or people associated   with  “counter-culture”  or the “youth movement”     of the 1960s &amp; 197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1955-1D3C-4865-AAF5-8E7E1AA50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xiecra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ack Pow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vil Rights A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ing Rights Ac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urgood Marshall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ion of Islam (Black Musli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4A55-F0C1-4AC2-B65F-3812778E8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newall Rio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e v. Wad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Raz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sar Chavez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catraz Island, 19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D70A-6120-41FC-919B-FA79B4AE7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544F-EBC8-4A7B-B94F-23866B512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ing Congress’ approval to send U.S. forces into combat for more than 90 days &amp; must inform Congress within 48 hours as to the reasons for military inter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8D81-5B9D-4064-839A-4E35B105D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of the civil rights movement in 195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mergence of Martin Luther King as a national civil rights leader in 195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on Washington in 1963 b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LC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CC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A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vil Rights Act of 19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ting Rights Act of 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BC0D-A583-4A10-A765-DA067ACF2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st &amp; the Brightest”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New Frontier”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Flexible Response”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y of Pig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ren Com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2DE3-0DAF-472C-B84C-EC4850164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1C0C-EEF5-4B2A-9413-51B57EDAD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hi Min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go Dinh Die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tcong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lf of Tonkin Resolution, 196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 Offensive, 1968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tagon Pap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tnam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9684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7928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91440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69684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7928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9684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7928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1440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9684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7928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2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nit 13 Re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ssential Ques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ere the major domestic &amp;  foreign themes in U.S. history from 1960-197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uban Missile                                          Death Matc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Cuban missile crisis"/>
          <p:cNvPicPr/>
          <p:nvPr/>
        </p:nvPicPr>
        <p:blipFill>
          <a:blip r:embed="rId1">
            <a:lum contrast="-12000"/>
          </a:blip>
          <a:srcRect l="1338" t="0" r="0" b="0"/>
          <a:stretch/>
        </p:blipFill>
        <p:spPr>
          <a:xfrm>
            <a:off x="3809880" y="2744640"/>
            <a:ext cx="5334120" cy="4113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Times New Roman"/>
              </a:rPr>
              <a:t>Name 1 way each helped   </a:t>
            </a:r>
            <a:r>
              <a:rPr b="0" lang="en-US" sz="5000" spc="-1" strike="noStrike" u="sng">
                <a:solidFill>
                  <a:srgbClr val="003366"/>
                </a:solidFill>
                <a:uFillTx/>
                <a:latin typeface="Times New Roman"/>
              </a:rPr>
              <a:t>Civil Rights from 1948-1965:</a:t>
            </a:r>
            <a:br>
              <a:rPr sz="5000"/>
            </a:br>
            <a:r>
              <a:rPr b="0" i="1" lang="en-US" sz="5000" spc="-1" strike="noStrike">
                <a:solidFill>
                  <a:srgbClr val="003366"/>
                </a:solidFill>
                <a:latin typeface="Times New Roman"/>
              </a:rPr>
              <a:t>Harry Truman</a:t>
            </a:r>
            <a:br>
              <a:rPr sz="5000"/>
            </a:br>
            <a:r>
              <a:rPr b="0" i="1" lang="en-US" sz="5000" spc="-1" strike="noStrike">
                <a:solidFill>
                  <a:srgbClr val="003366"/>
                </a:solidFill>
                <a:latin typeface="Times New Roman"/>
              </a:rPr>
              <a:t>Dwight Eisenhower</a:t>
            </a:r>
            <a:br>
              <a:rPr sz="5000"/>
            </a:br>
            <a:r>
              <a:rPr b="0" i="1" lang="en-US" sz="5000" spc="-1" strike="noStrike">
                <a:solidFill>
                  <a:srgbClr val="003366"/>
                </a:solidFill>
                <a:latin typeface="Times New Roman"/>
              </a:rPr>
              <a:t>Lyndon Johnson</a:t>
            </a:r>
            <a:br>
              <a:rPr sz="5000"/>
            </a:br>
            <a:r>
              <a:rPr b="0" i="1" lang="en-US" sz="5000" spc="-1" strike="noStrike">
                <a:solidFill>
                  <a:srgbClr val="003366"/>
                </a:solidFill>
                <a:latin typeface="Times New Roman"/>
              </a:rPr>
              <a:t>Supreme Court </a:t>
            </a:r>
            <a:br>
              <a:rPr sz="5000"/>
            </a:br>
            <a:r>
              <a:rPr b="0" i="1" lang="en-US" sz="5000" spc="-1" strike="noStrike">
                <a:solidFill>
                  <a:srgbClr val="003366"/>
                </a:solidFill>
                <a:latin typeface="Times New Roman"/>
              </a:rPr>
              <a:t>CORE</a:t>
            </a:r>
            <a:br>
              <a:rPr sz="5000"/>
            </a:br>
            <a:r>
              <a:rPr b="0" i="1" lang="en-US" sz="5000" spc="-1" strike="noStrike">
                <a:solidFill>
                  <a:srgbClr val="003366"/>
                </a:solidFill>
                <a:latin typeface="Times New Roman"/>
              </a:rPr>
              <a:t>SNCC</a:t>
            </a:r>
            <a:r>
              <a:rPr b="0" lang="en-US" sz="5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560" y="152280"/>
            <a:ext cx="883908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87720" indent="-38772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Truman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Desegregated military in 19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7720" indent="-38772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Ike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Enforced school integration at Little Rock’s Central High School in 195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7720" indent="-38772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LBJ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Civil Rights Act of 1964, Voting Rights Act of 1965, 24</a:t>
            </a:r>
            <a:r>
              <a:rPr b="0" lang="en-US" sz="3600" spc="-1" strike="noStrike" baseline="30000">
                <a:solidFill>
                  <a:srgbClr val="cc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 Amend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7720" indent="-38772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Supreme Court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Brown v. BOE in 1954 overturned Ples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7720" indent="-38772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CORE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Freedom Rides in 196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7720" indent="-38772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SNCC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College students inspired by MLK began the sit-in; Later became militant under Stokely Carmicha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Name 3 reasons 1968  was one of the most tumultuous years in American history  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5000"/>
              </a:lnSpc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Assassination of M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Assassination of Robert Kenne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Student protests in Chicago during Democratic National Convention (Humphrey vs. McCarthy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eight of the Vietnam War with 500,000 U.S. soldiers deploy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North Vietnam’s Tet Offens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Black Power” silent protest at Mexico City Olympi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Name 5 ideas, events,    or people associated   with  “counter-culture”  or the “youth movement”     of the 1960s &amp; 1970s 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Mario Savio, “Free Speech” movement, Students for a Democ Society (S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ex, drugs, rock n roll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rotest of the Vietnam War; Kent State &amp; Jackson State violence in 19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imothy Leary “tune in, turn on, drop ou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Woodstock concert, 196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Hippies” &amp; alternative commun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Any of the “power movement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litical activism; Dem Convention 196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3366"/>
                </a:solidFill>
                <a:uFillTx/>
                <a:latin typeface="Times New Roman"/>
              </a:rPr>
              <a:t>Identify Each:</a:t>
            </a:r>
            <a:br>
              <a:rPr sz="60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Dixiecrat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Black Power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Civil Rights Act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Voting Rights Act 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 Thurgood Marshall 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Nation of Islam (Black Muslims)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240" y="76320"/>
            <a:ext cx="883908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Dixiecrat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Southern Democrats who splintered from the party in opposition to civil rights position of JFK &amp; LBJ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Black Power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led by SNCC &amp; Stokely Carmichael, advocated economic equality with whites; often milit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Civil Rights Act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ended segregation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Voting Rights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ended literacy tests &amp; allowed for federal voting registr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Marshall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Lead NAACP attorney in the Brown case; 1</a:t>
            </a:r>
            <a:r>
              <a:rPr b="0" lang="en-US" sz="3600" spc="-1" strike="noStrike" baseline="30000">
                <a:solidFill>
                  <a:srgbClr val="cc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 black Sup.Court jus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Nation of Islam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Led by Malcolm X, advocated a militant, pro-Africa posi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66"/>
                </a:solidFill>
                <a:uFillTx/>
                <a:latin typeface="Times New Roman"/>
              </a:rPr>
              <a:t>Identify Each Civil Rights Concept from 1965-1974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:</a:t>
            </a:r>
            <a:br>
              <a:rPr sz="54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 Stonewall Riot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ERA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Roe v. Wade 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La Raza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Cesar Chavez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Alcatraz Island, 1969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763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Stonewall Riot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Arrests in NY began the gay liberation movement (GL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Equal Rights Amnd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failed amendment to end sexual discrimination; Supported by Freidan &amp; Steinem; Opposed by Schlaf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Roe v Wade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Supreme Court upheld abortion rights as a matter of priv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La Raza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Mexican-American movement dedicated to awaren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Cesar Chavez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Mexican-Am leader of United Farm Workers of 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Alcatraz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Indians of All Tribes seized the prison to bring awareness to Indian r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3366"/>
                </a:solidFill>
                <a:uFillTx/>
                <a:latin typeface="Times New Roman"/>
              </a:rPr>
              <a:t>What Event </a:t>
            </a:r>
            <a:r>
              <a:rPr b="0" i="1" lang="en-US" sz="5400" spc="-1" strike="noStrike" u="sng">
                <a:solidFill>
                  <a:srgbClr val="003366"/>
                </a:solidFill>
                <a:uFillTx/>
                <a:latin typeface="Times New Roman"/>
              </a:rPr>
              <a:t>Caused</a:t>
            </a:r>
            <a:r>
              <a:rPr b="0" lang="en-US" sz="5400" spc="-1" strike="noStrike" u="sng">
                <a:solidFill>
                  <a:srgbClr val="003366"/>
                </a:solidFill>
                <a:uFillTx/>
                <a:latin typeface="Times New Roman"/>
              </a:rPr>
              <a:t> Each?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-507960">
              <a:lnSpc>
                <a:spcPct val="95000"/>
              </a:lnSpc>
              <a:spcBef>
                <a:spcPts val="751"/>
              </a:spcBef>
              <a:buClr>
                <a:srgbClr val="0099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The beginning of the civil rights movement in 195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95000"/>
              </a:lnSpc>
              <a:spcBef>
                <a:spcPts val="751"/>
              </a:spcBef>
              <a:buClr>
                <a:srgbClr val="0099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The emergence of Martin Luther King as a national civil rights leader in 195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95000"/>
              </a:lnSpc>
              <a:spcBef>
                <a:spcPts val="751"/>
              </a:spcBef>
              <a:buClr>
                <a:srgbClr val="0099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March on Washington in 1963 by</a:t>
            </a:r>
            <a:r>
              <a:rPr b="0" i="1" lang="en-US" sz="3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CORE,</a:t>
            </a:r>
            <a:r>
              <a:rPr b="0" i="1" lang="en-US" sz="3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SCLC,</a:t>
            </a:r>
            <a:r>
              <a:rPr b="0" i="1" lang="en-US" sz="3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SNCC,</a:t>
            </a:r>
            <a:r>
              <a:rPr b="0" i="1" lang="en-US" sz="3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NAA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95000"/>
              </a:lnSpc>
              <a:spcBef>
                <a:spcPts val="751"/>
              </a:spcBef>
              <a:buClr>
                <a:srgbClr val="0099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Civil Rights Act of 19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95000"/>
              </a:lnSpc>
              <a:spcBef>
                <a:spcPts val="751"/>
              </a:spcBef>
              <a:buClr>
                <a:srgbClr val="0099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Voting Rights Act of 196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Name the 3 components of Nixon’s détente foreign policy 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00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Détente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: Nixon’s Cold War foreign policy involv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11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Easing tensions with USS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11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Better relations with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11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A gradual withdrawal from Vietnam (Vietnamiza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66"/>
                </a:solidFill>
                <a:uFillTx/>
                <a:latin typeface="Times New Roman"/>
              </a:rPr>
              <a:t>Identify Each Nixon Concept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:</a:t>
            </a:r>
            <a:br>
              <a:rPr sz="5400"/>
            </a:br>
            <a:r>
              <a:rPr b="0" i="1" lang="en-US" sz="4700" spc="-1" strike="noStrike">
                <a:solidFill>
                  <a:srgbClr val="003366"/>
                </a:solidFill>
                <a:latin typeface="Times New Roman"/>
              </a:rPr>
              <a:t>“The Great Nixon Turn-Around”</a:t>
            </a:r>
            <a:br>
              <a:rPr sz="4700"/>
            </a:br>
            <a:r>
              <a:rPr b="0" i="1" lang="en-US" sz="4700" spc="-1" strike="noStrike">
                <a:solidFill>
                  <a:srgbClr val="003366"/>
                </a:solidFill>
                <a:latin typeface="Times New Roman"/>
              </a:rPr>
              <a:t>“Silent Majority”</a:t>
            </a:r>
            <a:br>
              <a:rPr sz="4700"/>
            </a:br>
            <a:r>
              <a:rPr b="0" i="1" lang="en-US" sz="4700" spc="-1" strike="noStrike">
                <a:solidFill>
                  <a:srgbClr val="003366"/>
                </a:solidFill>
                <a:latin typeface="Times New Roman"/>
              </a:rPr>
              <a:t>Ping-Pong Diplomacy</a:t>
            </a:r>
            <a:br>
              <a:rPr sz="4700"/>
            </a:br>
            <a:r>
              <a:rPr b="0" i="1" lang="en-US" sz="4700" spc="-1" strike="noStrike">
                <a:solidFill>
                  <a:srgbClr val="003366"/>
                </a:solidFill>
                <a:latin typeface="Times New Roman"/>
              </a:rPr>
              <a:t>SALT</a:t>
            </a:r>
            <a:br>
              <a:rPr sz="4700"/>
            </a:br>
            <a:r>
              <a:rPr b="0" i="1" lang="en-US" sz="4700" spc="-1" strike="noStrike">
                <a:solidFill>
                  <a:srgbClr val="003366"/>
                </a:solidFill>
                <a:latin typeface="Times New Roman"/>
              </a:rPr>
              <a:t>War Powers Act (1973)</a:t>
            </a:r>
            <a:br>
              <a:rPr sz="4000"/>
            </a:br>
            <a:r>
              <a:rPr b="0" i="1" lang="en-US" sz="4700" spc="-1" strike="noStrike">
                <a:solidFill>
                  <a:srgbClr val="003366"/>
                </a:solidFill>
                <a:latin typeface="Times New Roman"/>
              </a:rPr>
              <a:t>Watergate</a:t>
            </a: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Nixon Turn-Around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90-day freeze on wages helped end a recession in 19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Silent Majority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Conservative minded Americans fed up with liberal reform, Cold War foreign policy, &amp; student protes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Ping-Pong Diplomacy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beginning of Nixon’s official recognition of Chi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SALT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nuclear arms limitation with US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War Powers Act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Restricted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military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wer of president; Congressional approval to send troops for more than 90 d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Watergate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biggest prez scandal 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50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Brown v BOE </a:t>
            </a:r>
            <a:r>
              <a:rPr b="0" lang="en-US" sz="3800" spc="-1" strike="noStrike">
                <a:solidFill>
                  <a:srgbClr val="cc0000"/>
                </a:solidFill>
                <a:latin typeface="Arial"/>
                <a:ea typeface="Arial"/>
              </a:rPr>
              <a:t>→ </a:t>
            </a:r>
            <a:r>
              <a:rPr b="0" lang="en-US" sz="3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Civil Rights Movement</a:t>
            </a:r>
            <a:r>
              <a:rPr b="0" lang="en-US" sz="38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  <a:ea typeface="Arial"/>
              </a:rPr>
              <a:t>Success of the Montgomery Bus Boycott → </a:t>
            </a:r>
            <a:r>
              <a:rPr b="0" lang="en-US" sz="3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MLK as leader</a:t>
            </a:r>
            <a:r>
              <a:rPr b="0" lang="en-US" sz="3800" spc="-1" strike="noStrike">
                <a:solidFill>
                  <a:srgbClr val="cc0000"/>
                </a:solidFill>
                <a:latin typeface="Arial"/>
                <a:ea typeface="Arial"/>
              </a:rPr>
              <a:t> (&amp; SCLC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  <a:ea typeface="Arial"/>
              </a:rPr>
              <a:t>National attention generated by Birmingham march → </a:t>
            </a:r>
            <a:r>
              <a:rPr b="0" lang="en-US" sz="3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March on D.C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  <a:ea typeface="Arial"/>
              </a:rPr>
              <a:t>Birmingham violence on TV and/or March on D.C. → </a:t>
            </a:r>
            <a:r>
              <a:rPr b="0" lang="en-US" sz="3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Civil Rights Act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  <a:ea typeface="Arial"/>
              </a:rPr>
              <a:t>Violence at Selma march → </a:t>
            </a:r>
            <a:r>
              <a:rPr b="0" lang="en-US" sz="3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Voting Rights Act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3366"/>
                </a:solidFill>
                <a:uFillTx/>
                <a:latin typeface="Times New Roman"/>
              </a:rPr>
              <a:t>Identify Each JFK Concept</a:t>
            </a: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:</a:t>
            </a:r>
            <a:br>
              <a:rPr sz="54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“Best &amp; the Brightest”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“New Frontier”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“Flexible Response”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Bay of Pigs 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Warren Commission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5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Best &amp; Brightest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”: Term for JFK’s White House staff; He increased power of prez by using his staff more than the Cabi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New Frontier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”: JFK’s domestic policy, called for liberal reform in education, poverty, &amp; strong stand against US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Flexible Response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”: JFK’s foreign policy of using a variety of tactics, increased nuclear missiles, CIA, Green Ber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Bay of Pigs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Failed invasion of Cuba 196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Warren Commission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Gov’t investigation of JFK’s assassination (“Oswald did it“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Name 6 components of Lyndon Johnson’s </a:t>
            </a:r>
            <a:br>
              <a:rPr sz="6000"/>
            </a:b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“Great Society” 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rcRect l="13478" t="18044" r="8790" b="75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3429000" y="2057400"/>
            <a:ext cx="1219320" cy="60948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657600" y="5791320"/>
            <a:ext cx="1219320" cy="60948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267080" y="6324480"/>
            <a:ext cx="1219320" cy="60984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609480" y="4800600"/>
            <a:ext cx="1219320" cy="60948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28600" y="3276720"/>
            <a:ext cx="1219320" cy="60948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228600" y="1447920"/>
            <a:ext cx="1219320" cy="60948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114800" y="4800600"/>
            <a:ext cx="1371600" cy="3808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1600200" y="3657600"/>
            <a:ext cx="1371600" cy="3808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66"/>
                </a:solidFill>
                <a:uFillTx/>
                <a:latin typeface="Times New Roman"/>
              </a:rPr>
              <a:t>Identify Each Vietnam Concept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: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Ho Chi Minh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Ngo Dinh Diem 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Vietcong 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Gulf of Tonkin Resolution, 1964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Tet Offensive, 1968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Pentagon Papers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Vietnamization 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638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Ho Chi Minh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</a:rPr>
              <a:t>: Communist leader in Nor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38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Diem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</a:rPr>
              <a:t>: Democratic leader in South; JFK gave OK for his assassination in 196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38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Vietcong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</a:rPr>
              <a:t>: Communists in the South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38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Gulf of Tonkin Resolution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</a:rPr>
              <a:t>: Congress gave LBJ all necessary steps to win Vietnam;   led to full deployment of U.S. troop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38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Tet Offensive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</a:rPr>
              <a:t>: Communist invasion into South; showed that USA wasn’t win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38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Pentagon Papers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</a:rPr>
              <a:t>: Military docs showed U.S. gov’t was distorting truth about war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38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Vietnamization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</a:rPr>
              <a:t>: Nixon’s gradual withdrawal of U.S. troops; Let Vietnamese figh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3:35:02Z</dcterms:created>
  <dc:creator>e200203909</dc:creator>
  <dc:description/>
  <dc:language>en-US</dc:language>
  <cp:lastModifiedBy>Sacerdote, Kevin R.</cp:lastModifiedBy>
  <dcterms:modified xsi:type="dcterms:W3CDTF">2017-05-02T12:10:38Z</dcterms:modified>
  <cp:revision>34</cp:revision>
  <dc:subject/>
  <dc:title>Slide 1</dc:title>
</cp:coreProperties>
</file>